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19.gif" ContentType="image/gif"/>
  <Override PartName="/ppt/media/image14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0.gif" ContentType="image/gif"/>
  <Override PartName="/ppt/media/image30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37.jpeg" ContentType="image/jpeg"/>
  <Override PartName="/ppt/media/image10.gif" ContentType="image/gif"/>
  <Override PartName="/ppt/media/image34.jpeg" ContentType="image/jpeg"/>
  <Override PartName="/ppt/media/image41.gif" ContentType="image/gif"/>
  <Override PartName="/ppt/media/image45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6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8.jpeg" ContentType="image/jpeg"/>
  <Override PartName="/ppt/media/image5.gif" ContentType="image/gif"/>
  <Override PartName="/ppt/media/image33.jpeg" ContentType="image/jpeg"/>
  <Override PartName="/ppt/media/image4.gif" ContentType="image/gif"/>
  <Override PartName="/ppt/media/image4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F37-49C5-49A4-9D0D-0ED625FF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7E5-7919-40FA-A2F6-BCF12EA0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FB2-A750-46BF-8445-F5CB884C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FF6-267F-494E-A858-07979AA2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5BAE-D060-4D31-96ED-7323269C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D133-33C8-4B10-A556-813DC170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A89-F0BD-49FA-BB42-2DF61C1C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0DBA-8E39-40D7-9308-E31EF5C0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3088-0B86-486D-8DD4-EFDBE30B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EE56-9F56-4BCD-883A-68FFF70C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1D95-EB4C-4036-A671-AB1D342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2E7-EA6F-4F4C-8FC1-3C5A3E1A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83F5-EA39-4CAC-BE0F-3895F2E0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60E3-C3C4-4EF2-A0EF-D0E7B7E5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3A50-3BEC-430A-B15D-ABDABBB4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56A4-F98A-45FA-9691-02307CD3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9BD-5F7B-4BDA-9E33-ED956E97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0C0-598D-49BB-ACD4-B3C7514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576-0D3E-45FB-8CFD-4CB583C1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6D2-C6F1-4A6F-870B-50A30B1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7D8-6EA2-45A7-A95E-63369D4E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89B-633E-404C-9BB3-286EC8F3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5EF-1D4F-412C-933A-824B17A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0DF-9F50-49A0-99FE-0B506A8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5146-0235-427B-A5AF-C98DAFA562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d71"/>
            </a:gs>
            <a:gs pos="100000">
              <a:srgbClr val="655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33B3-0B5B-448D-9E14-458B65D0D6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.xml"/><Relationship Id="rId6" Type="http://schemas.openxmlformats.org/officeDocument/2006/relationships/slide" Target="slide.xml"/><Relationship Id="rId7" Type="http://schemas.openxmlformats.org/officeDocument/2006/relationships/slide" Target="slide&#1087;&#1088;&#1072;&#1074;&#1072;.xml"/><Relationship Id="rId8" Type="http://schemas.openxmlformats.org/officeDocument/2006/relationships/slide" Target="slide.xml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956720" cy="28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3300"/>
                </a:solidFill>
                <a:latin typeface="Times New Roman"/>
              </a:rPr>
              <a:t>Уголовное</a:t>
            </a:r>
            <a:r>
              <a:rPr b="0" lang="ru-RU" sz="8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663300"/>
                </a:solidFill>
                <a:latin typeface="Arial"/>
              </a:rPr>
              <a:t>право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62728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ждый из нас - сын своих дел.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. Сервант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055Суд во время Русской Правды"/>
          <p:cNvPicPr/>
          <p:nvPr/>
        </p:nvPicPr>
        <p:blipFill>
          <a:blip r:embed="rId1"/>
          <a:stretch/>
        </p:blipFill>
        <p:spPr>
          <a:xfrm>
            <a:off x="3676680" y="4221000"/>
            <a:ext cx="546732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2"/>
          <p:cNvGrpSpPr/>
          <p:nvPr/>
        </p:nvGrpSpPr>
        <p:grpSpPr>
          <a:xfrm>
            <a:off x="0" y="1268280"/>
            <a:ext cx="3132000" cy="5492880"/>
            <a:chOff x="0" y="1268280"/>
            <a:chExt cx="3132000" cy="5492880"/>
          </a:xfrm>
        </p:grpSpPr>
        <p:pic>
          <p:nvPicPr>
            <p:cNvPr id="156" name="Picture 5" descr="roth03Вывеска музея Уголовного права"/>
            <p:cNvPicPr/>
            <p:nvPr/>
          </p:nvPicPr>
          <p:blipFill>
            <a:blip r:embed="rId2"/>
            <a:stretch/>
          </p:blipFill>
          <p:spPr>
            <a:xfrm>
              <a:off x="0" y="1268280"/>
              <a:ext cx="3132000" cy="48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0" y="6180480"/>
              <a:ext cx="3132000" cy="580680"/>
            </a:xfrm>
            <a:prstGeom prst="rect">
              <a:avLst/>
            </a:prstGeom>
            <a:solidFill>
              <a:srgbClr val="dbbd71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Вывеска музе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Tahoma"/>
                </a:rPr>
                <a:t>Уголовного права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8" name="nasha_sluzhba_i_opasna_i_trudna.mp3" descr=""/>
          <p:cNvPicPr/>
          <p:nvPr/>
        </p:nvPicPr>
        <p:blipFill>
          <a:blip r:embed="rId3"/>
          <a:stretch/>
        </p:blipFill>
        <p:spPr>
          <a:xfrm>
            <a:off x="320364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16"/>
          <p:cNvPicPr/>
          <p:nvPr/>
        </p:nvPicPr>
        <p:blipFill>
          <a:blip r:embed="rId4"/>
          <a:stretch/>
        </p:blipFill>
        <p:spPr>
          <a:xfrm>
            <a:off x="7380360" y="119700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362800" cy="11430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онятие и признаки преступлен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373960" cy="2087640"/>
          </a:xfrm>
          <a:prstGeom prst="rect">
            <a:avLst/>
          </a:prstGeom>
          <a:gradFill rotWithShape="0">
            <a:gsLst>
              <a:gs pos="0">
                <a:srgbClr val="655734"/>
              </a:gs>
              <a:gs pos="100000">
                <a:srgbClr val="dbbd71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dbbd71"/>
                </a:solidFill>
                <a:latin typeface="Times New Roman"/>
              </a:rPr>
              <a:t>Отсутствие общественной опасности исключает возможность признания деяния преступлением (речь идет о малозначительных деяниях, действиях необходимой обороны и т.д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еступлением признается запрещенное уголовным законом общественно опасное деяние (действие или бездействие), причиняющее вред или создающее угрозу причинения вреда личности, обществу или государств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556000" y="3860640"/>
            <a:ext cx="6588000" cy="25282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Уголовная ответственность возникает с момента совершения лицом преступления, а прекращается либо по отбытии наказания (снятие или погашение судимости), либо в случае освобождения от уголовной ответственности, либо в силу акта об амнистии или помилова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уществует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фактическое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и </a:t>
            </a:r>
            <a:r>
              <a:rPr b="1" lang="ru-RU" sz="1600" spc="-1" strike="noStrike">
                <a:solidFill>
                  <a:srgbClr val="663300"/>
                </a:solidFill>
                <a:latin typeface="Tahoma"/>
              </a:rPr>
              <a:t>юридическое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основание уголовной ответствен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Лицо, совершившее преступление, подлежит уголовной ответственности независимо от происхождения, социального, должностного и имущественного положения, расовой и национальной принадлежности, пола, образования, языка и т.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5" descr="555b2b1051829baa530b98c880c1bbd6"/>
          <p:cNvPicPr/>
          <p:nvPr/>
        </p:nvPicPr>
        <p:blipFill>
          <a:blip r:embed="rId1"/>
          <a:stretch/>
        </p:blipFill>
        <p:spPr>
          <a:xfrm>
            <a:off x="395280" y="3933720"/>
            <a:ext cx="19335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5219640" cy="287964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Уровень общественной опасности, а значит и характер наказания зависят от целого ряда фактор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ценности охраняемого объек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характера и размера преступного последств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пособ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руди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ме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време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бстановки совершения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5280" y="3933720"/>
            <a:ext cx="6012000" cy="237636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 общественной опасност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преступления делятся на насильственные, экономические, государственные, хозяйственные, умышленные и неосторожны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о степен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: особо тяжкие, тяжкие, средней тяжести, и не представляющие большой общественной опас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662400" y="3068640"/>
            <a:ext cx="819396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уществу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качественные и количественные характеристики преступления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0712-02"/>
          <p:cNvPicPr/>
          <p:nvPr/>
        </p:nvPicPr>
        <p:blipFill>
          <a:blip r:embed="rId1"/>
          <a:stretch/>
        </p:blipFill>
        <p:spPr>
          <a:xfrm>
            <a:off x="6659640" y="3933720"/>
            <a:ext cx="2293920" cy="292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18" name="Picture 7" descr="2871b"/>
          <p:cNvPicPr/>
          <p:nvPr/>
        </p:nvPicPr>
        <p:blipFill>
          <a:blip r:embed="rId2"/>
          <a:stretch/>
        </p:blipFill>
        <p:spPr>
          <a:xfrm>
            <a:off x="5867280" y="404640"/>
            <a:ext cx="2857680" cy="22003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Состав преступ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0440" y="1125360"/>
            <a:ext cx="9271440" cy="6426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оставом преступления принято называть совокупно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становленных законом объективных и субъективных признаков преступ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268360" y="1844640"/>
            <a:ext cx="6696360" cy="3934440"/>
          </a:xfrm>
          <a:prstGeom prst="rect">
            <a:avLst/>
          </a:prstGeom>
          <a:solidFill>
            <a:srgbClr val="ffcc66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ом преступления являются охраняемые законом общественные отнош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Объект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может бы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им (вся совокупность общественных отношен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одовым (однородная группа общественных отношений)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посредственным (то общественное отношение, которое терпит ущерб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Беспредметных преступлений не существует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ъективная сторона преступления - это внешняя сторо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а есть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 субъективная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- мотивы и цели, отношение виновного к своему деянию и его последствия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6159600"/>
            <a:ext cx="9144000" cy="91692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деляют такие формы преступления, как: длящиеся, продолжаем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овторяемые) и составные (различные преступления, совершенные одним лиц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37680" y="5734080"/>
            <a:ext cx="8032320" cy="36828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ступление может выражаться как в действии, так и бездейств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9" descr="020202ac"/>
          <p:cNvPicPr/>
          <p:nvPr/>
        </p:nvPicPr>
        <p:blipFill>
          <a:blip r:embed="rId1"/>
          <a:stretch/>
        </p:blipFill>
        <p:spPr>
          <a:xfrm>
            <a:off x="108000" y="2492280"/>
            <a:ext cx="2016000" cy="2884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51280" y="1197000"/>
            <a:ext cx="5113440" cy="5516640"/>
          </a:xfrm>
          <a:prstGeom prst="rect">
            <a:avLst/>
          </a:prstGeom>
          <a:solidFill>
            <a:srgbClr val="a870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тяжкие и распространенные преступления ответственность наступает с 14 л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виды убийств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ышленное нанесение телесных повреждений, причинивших расстройство здоров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бо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беж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жу чужого имущес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лостное и особо злостное хулиганств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щение огнестрельного оружия, наркотиков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овное наказание применяется к подросткам не тогда, когда это возможно, а только тогда, когда без него нельзя обойтись. В некоторых случаях уголовный закон предусматривает уголовную ответственность лица по достижении им 18 л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46920" y="260280"/>
            <a:ext cx="8216640" cy="642600"/>
          </a:xfrm>
          <a:prstGeom prst="rect">
            <a:avLst/>
          </a:prstGeom>
          <a:solidFill>
            <a:srgbClr val="a870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убъектом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ступления может быть признано физическое лиц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меняемое и достигшее возраста уголовной ответственности -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6 л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8" descr="f75d3f8977640d6973375c6ae8291759областном суде состоялось заседание"/>
          <p:cNvPicPr/>
          <p:nvPr/>
        </p:nvPicPr>
        <p:blipFill>
          <a:blip r:embed="rId1"/>
          <a:stretch/>
        </p:blipFill>
        <p:spPr>
          <a:xfrm>
            <a:off x="179280" y="3716280"/>
            <a:ext cx="3527640" cy="28512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28" name="Picture 10" descr="173924239"/>
          <p:cNvPicPr/>
          <p:nvPr/>
        </p:nvPicPr>
        <p:blipFill>
          <a:blip r:embed="rId2"/>
          <a:stretch/>
        </p:blipFill>
        <p:spPr>
          <a:xfrm>
            <a:off x="179280" y="1268280"/>
            <a:ext cx="3346560" cy="21463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3780000" y="189000"/>
            <a:ext cx="4895640" cy="436284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Субъектом преступления также может выступать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юридическое лицо</a:t>
            </a: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(предприятие, учреждение, организация и т.д.), если его деятельность не соответствует учредительным документам или объявленным цел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За это преступление предусматривается штраф, запрещение заниматься определенной деятельностью, конфискация имущества, ликвидация юридического лица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95280" y="4653000"/>
            <a:ext cx="8569440" cy="20142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Соучастие в преступлении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есть умышленное совместное участие двух или более лиц в совершении преступл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зависимости от характера выполняемых действий соучастники подразделяются на исполнителей, организаторов, подстрекателей и пособн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ветственность соучастников определяется характером участия каждого из них в совершении преступ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element-589841-misc-plut_700"/>
          <p:cNvPicPr/>
          <p:nvPr/>
        </p:nvPicPr>
        <p:blipFill>
          <a:blip r:embed="rId1"/>
          <a:stretch/>
        </p:blipFill>
        <p:spPr>
          <a:xfrm>
            <a:off x="250920" y="2421000"/>
            <a:ext cx="3076560" cy="20876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32" name="Picture 7" descr="karikatura224"/>
          <p:cNvPicPr/>
          <p:nvPr/>
        </p:nvPicPr>
        <p:blipFill>
          <a:blip r:embed="rId2"/>
          <a:stretch/>
        </p:blipFill>
        <p:spPr>
          <a:xfrm>
            <a:off x="108000" y="189000"/>
            <a:ext cx="3600360" cy="2106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Наказание, их система и вид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44000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устанавливается с учетом тяжести совершенного преступления, степени общественной опасности личности, обстоятельств, смягчающих и отягощающих уголовную ответствен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д учитывает также обстоятельства дела и личность виновного, а равно его явку с повинной либо активное способствование раскрытию преступ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700360" y="3284640"/>
            <a:ext cx="6265800" cy="146556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Признак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аказания являются предусмотренность зако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убличность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трицательность морально-политической оценк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менимость только по решению с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iгпв"/>
          <p:cNvPicPr/>
          <p:nvPr/>
        </p:nvPicPr>
        <p:blipFill>
          <a:blip r:embed="rId1"/>
          <a:stretch/>
        </p:blipFill>
        <p:spPr>
          <a:xfrm>
            <a:off x="0" y="3213000"/>
            <a:ext cx="2554200" cy="14842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37" name="Rectangle 7"/>
          <p:cNvSpPr/>
          <p:nvPr/>
        </p:nvSpPr>
        <p:spPr>
          <a:xfrm>
            <a:off x="0" y="4824360"/>
            <a:ext cx="8785080" cy="1992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ацелено на исправление осужденного и предупреждение новых преступлений как осужденным, так и иными лиц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казание не имеет целью причинение осужденному физических страданий или унижение его человеческого достои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5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0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3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6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179280" y="3500280"/>
            <a:ext cx="8964720" cy="3051360"/>
          </a:xfrm>
          <a:prstGeom prst="rect">
            <a:avLst/>
          </a:prstGeom>
          <a:solidFill>
            <a:srgbClr val="dbbd71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ополнительные наказания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не могут применяться самостоятельно, к ним можно отнести конфискацию имущества, лишение воинского или специального зв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 виде исключительной меры наказания допускается применение смертной казни - расстрела (умышленное убийство с особой жестокостью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ней не могут быть приговорены несовершеннолетние до 18 лет, женщины в состоянии беременности (по проекту - она не должна применяться к женщинам, к мужчинам старше 65 лет). В результате помилования смертная казнь может заменяться пожизненным заключе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76040" y="401760"/>
            <a:ext cx="3826080" cy="8254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К основны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ahoma"/>
              </a:rPr>
              <a:t>наказаниям относ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79280" y="1700280"/>
            <a:ext cx="4572000" cy="155700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лишение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исправительные работы без лишения своб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9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общественное пориц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8" descr="rthria_cont"/>
          <p:cNvPicPr/>
          <p:nvPr/>
        </p:nvPicPr>
        <p:blipFill>
          <a:blip r:embed="rId1"/>
          <a:stretch/>
        </p:blipFill>
        <p:spPr>
          <a:xfrm>
            <a:off x="5003640" y="189000"/>
            <a:ext cx="4140360" cy="3240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Преступления, попадающие под действие уголов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5256360" cy="50846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онституция РФ закрепила право человека на жизнь, свободу и личную неприкосновенность, поэтому охрана жизни, здоровья, свободы, чести и достоинства - одна из важнейших задач уголовного законодатель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м опасным являются убийства (противоправное умышленное или неосторожное лишение жизни другого человек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е менее опасным является умышленное нанесение тяжелого телесного повреждения, изнасилование, незаконное лишение свободы, захват заложников, похищение человека, помещение в психиатрическую больницу заведомо психически здорового человека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4" descr="iмтт"/>
          <p:cNvPicPr/>
          <p:nvPr/>
        </p:nvPicPr>
        <p:blipFill>
          <a:blip r:embed="rId1"/>
          <a:stretch/>
        </p:blipFill>
        <p:spPr>
          <a:xfrm>
            <a:off x="5724360" y="4149720"/>
            <a:ext cx="3240360" cy="212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5" name="Picture 5" descr="iаол"/>
          <p:cNvPicPr/>
          <p:nvPr/>
        </p:nvPicPr>
        <p:blipFill>
          <a:blip r:embed="rId2"/>
          <a:stretch/>
        </p:blipFill>
        <p:spPr>
          <a:xfrm>
            <a:off x="6227640" y="1989000"/>
            <a:ext cx="2355840" cy="161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8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5219640" cy="4530960"/>
          </a:xfrm>
          <a:prstGeom prst="rect">
            <a:avLst/>
          </a:prstGeom>
          <a:solidFill>
            <a:srgbClr val="dbbd71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К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орыстным преступлениям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относятся преступления против собственности - незаконное обогащение за счет чужого иму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Среди них можно выделить: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кражу, грабеж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- открытое изъятие имущества без насилия либо с насилием, не опасным для жизн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разбой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насильственное нападение, опасное для жизни и здоровья (физически или психологически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ошенничество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- завладение чужим имуществом путем обмана или злоупотребления довери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вымогатель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чужого имущества - требование передачи имущества или права на него под угрозой применения насилия, шант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0920" y="5445000"/>
            <a:ext cx="8748720" cy="58968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кражу, грабеж и разбой ответственность наступает с 14 л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 остальные преступления - с 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6" descr="hru"/>
          <p:cNvPicPr/>
          <p:nvPr/>
        </p:nvPicPr>
        <p:blipFill>
          <a:blip r:embed="rId1"/>
          <a:stretch/>
        </p:blipFill>
        <p:spPr>
          <a:xfrm>
            <a:off x="5867280" y="2852640"/>
            <a:ext cx="3075120" cy="2160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49" name="Picture 7" descr="1222739497_14"/>
          <p:cNvPicPr/>
          <p:nvPr/>
        </p:nvPicPr>
        <p:blipFill>
          <a:blip r:embed="rId2"/>
          <a:stretch/>
        </p:blipFill>
        <p:spPr>
          <a:xfrm>
            <a:off x="6227640" y="0"/>
            <a:ext cx="2354400" cy="2565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5435640" cy="48974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елк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нецензурная брань в общественных местах, оскорбительное приставание к гражданам и т.д.) предусмотрена административная ответствен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Прост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наказывается лишением свободы сроком до одного года или исправительными работами, или штраф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За </a:t>
            </a: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злостное хулиганство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(отличается исключительным цинизмом или особой дерзостью, сопротивлением власти или гражданам, пресекающим хулиганские действия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лишение свободы от одного до пяти лет (глумление над престарелыми или больными, уничтожение имущества потерпевшег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358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От трех до семи лет за совершение особо злостного хулиганства (с применением огнестрельного или холодного оружия, кастетов и др. предметов, специально предназначенных для нанесения телесных повреждений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000126ir"/>
          <p:cNvPicPr/>
          <p:nvPr/>
        </p:nvPicPr>
        <p:blipFill>
          <a:blip r:embed="rId1"/>
          <a:stretch/>
        </p:blipFill>
        <p:spPr>
          <a:xfrm>
            <a:off x="6012000" y="2924280"/>
            <a:ext cx="2879640" cy="26431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52" name="Rectangle 5"/>
          <p:cNvSpPr/>
          <p:nvPr/>
        </p:nvSpPr>
        <p:spPr>
          <a:xfrm>
            <a:off x="0" y="189000"/>
            <a:ext cx="9036000" cy="91692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улиганство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выражается в активных действиях, грубо наруша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бщественный порядок и выражающих явное неуважение к личности и обще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539640" y="1197000"/>
            <a:ext cx="8210520" cy="53244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азличают три его разновидности: простое, злостное и особо злостн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597528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Происхождение наз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2" action="ppaction://hlinksldjump"/>
              </a:rPr>
              <a:t>Понят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3" action="ppaction://hlinksldjump"/>
              </a:rPr>
              <a:t>Понятие и признаки преступ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4" action="ppaction://hlinksldjump"/>
              </a:rPr>
              <a:t>Состав преступ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5" action="ppaction://hlinksldjump"/>
              </a:rPr>
              <a:t>Наказание, их система и виды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6" action="ppaction://hlinksldjump"/>
              </a:rPr>
              <a:t>_x000b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7" action="ppaction://hlinksldjump"/>
              </a:rPr>
              <a:t>Преступления, попадающие под действие уголовного пра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imes New Roman"/>
                <a:hlinkClick r:id="rId8" action="ppaction://hlinksldjump"/>
              </a:rPr>
              <a:t>Преступники, заставившие говорить о себе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Схемы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17по"/>
          <p:cNvPicPr/>
          <p:nvPr/>
        </p:nvPicPr>
        <p:blipFill>
          <a:blip r:embed="rId9"/>
          <a:stretch/>
        </p:blipFill>
        <p:spPr>
          <a:xfrm>
            <a:off x="179280" y="0"/>
            <a:ext cx="9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90"/>
          <p:cNvPicPr/>
          <p:nvPr/>
        </p:nvPicPr>
        <p:blipFill>
          <a:blip r:embed="rId10"/>
          <a:stretch/>
        </p:blipFill>
        <p:spPr>
          <a:xfrm>
            <a:off x="7740720" y="115920"/>
            <a:ext cx="1238040" cy="1557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79"/>
          <p:cNvPicPr/>
          <p:nvPr/>
        </p:nvPicPr>
        <p:blipFill>
          <a:blip r:embed="rId11"/>
          <a:stretch/>
        </p:blipFill>
        <p:spPr>
          <a:xfrm>
            <a:off x="6588000" y="5229360"/>
            <a:ext cx="25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599840"/>
            <a:ext cx="6193080" cy="240516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 этим преступлениям относятся: незаконное изготовление, приобретение, хранение, перевозка или сбыт наркотических веще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сли лицо добровольно сдало его или обратилось за медицинской помощью - оно освобождается от ответственности (за приобретение, хранение, перевозку и пересылку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4" descr="default"/>
          <p:cNvPicPr/>
          <p:nvPr/>
        </p:nvPicPr>
        <p:blipFill>
          <a:blip r:embed="rId1"/>
          <a:stretch/>
        </p:blipFill>
        <p:spPr>
          <a:xfrm>
            <a:off x="6443640" y="765000"/>
            <a:ext cx="2548080" cy="1656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49680" y="404640"/>
            <a:ext cx="6404760" cy="916920"/>
          </a:xfrm>
          <a:prstGeom prst="rect">
            <a:avLst/>
          </a:prstGeom>
          <a:solidFill>
            <a:srgbClr val="c4c188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убъектами преступлений, связанных с наркомание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являются вменяемые ли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остигшие 16-ти летнего возраста (за хищение - с 14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627280" y="4292640"/>
            <a:ext cx="6351480" cy="1743120"/>
          </a:xfrm>
          <a:prstGeom prst="rect">
            <a:avLst/>
          </a:prstGeom>
          <a:solidFill>
            <a:srgbClr val="7e7b3e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ого карается умышленное повреждение или уничтожение чужого имущества, приводящее к остановке деятельности предприятия, отравлению людей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общеопасным способам относятся поджог, взрыв, затопление и т.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тветственность - с 16 ле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7" descr="107837"/>
          <p:cNvPicPr/>
          <p:nvPr/>
        </p:nvPicPr>
        <p:blipFill>
          <a:blip r:embed="rId2"/>
          <a:stretch/>
        </p:blipFill>
        <p:spPr>
          <a:xfrm>
            <a:off x="324000" y="4365720"/>
            <a:ext cx="2016000" cy="1428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59" name="Picture 8" descr="17"/>
          <p:cNvPicPr/>
          <p:nvPr/>
        </p:nvPicPr>
        <p:blipFill>
          <a:blip r:embed="rId3"/>
          <a:stretch/>
        </p:blipFill>
        <p:spPr>
          <a:xfrm>
            <a:off x="7093080" y="2852640"/>
            <a:ext cx="18288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Обществознание 8-9 под редакцией Боголюбова, М.,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§ 30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вопросы 1-4, уст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нятия- зна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Эссе- письм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повторить с.192 – термины и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4" descr="15"/>
          <p:cNvPicPr/>
          <p:nvPr/>
        </p:nvPicPr>
        <p:blipFill>
          <a:blip r:embed="rId1"/>
          <a:stretch/>
        </p:blipFill>
        <p:spPr>
          <a:xfrm>
            <a:off x="6465960" y="2421000"/>
            <a:ext cx="1377720" cy="208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24"/>
          <p:cNvPicPr/>
          <p:nvPr/>
        </p:nvPicPr>
        <p:blipFill>
          <a:blip r:embed="rId2"/>
          <a:stretch/>
        </p:blipFill>
        <p:spPr>
          <a:xfrm>
            <a:off x="547560" y="404640"/>
            <a:ext cx="102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Преступники, заставившие говорить о себе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9036000" cy="56880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Задуманное, хотя и не осуществленное преступление есть все же преступление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 прощает преступление, становится его сообщником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то, имея возможность предупредить преступление, не делает этого, тот ему способствует.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Сен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озорно не наказание, а преступление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дер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з всех преступлений самое тяжкое — это бессердечие. Камю 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еступление нуждается лишь в предлоге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   -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Аристо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трашные преступления влекут за собой страшные последствия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ерцен А. 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юбовь к отечеству, стыд и страх поношения суть средства укротительная и могущие воздержать множество преступлений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уворов А.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олько слабые совершают преступления: сильному и счастливому они не нужны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ольте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амый отъявленный злодей старается извинить себя и уговорить, что совершенное им преступление не особенно существенно и обусловлено необходимостью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-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есси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ораздо лучше предупреждать преступления, нежели их наказывать. - Екатерина Вели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евять десятых из всего числа преступлений, пятнающих человечество, совершены под влиянием вина.- Толстой Л. 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o_tundre.mp3" descr=""/>
          <p:cNvPicPr/>
          <p:nvPr/>
        </p:nvPicPr>
        <p:blipFill>
          <a:blip r:embed="rId1"/>
          <a:stretch/>
        </p:blipFill>
        <p:spPr>
          <a:xfrm>
            <a:off x="10800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Oval 5"/>
          <p:cNvSpPr/>
          <p:nvPr/>
        </p:nvSpPr>
        <p:spPr>
          <a:xfrm>
            <a:off x="8748720" y="6237360"/>
            <a:ext cx="216000" cy="4111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0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Джон Диллинджер – враг общества номер один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6227640" cy="45306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жон Диллинджер - это преступник нового типа, широко применявший технические достижения цивилизации. Он активно пользовался автомобилями и одним из первых внедрил систему захвата заложников при ограблениях банков. Долгое время Диллинджер был головной болью всей полицейской Америки, ухитряясь совершать побеги из хорошо охраняемых тюрем. Его похождения и смерть во многом напоминают историю романтической парочки грабителей - Бонни Паркер и Клайда Барро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 последующие десятилетия по образцу банды Диллинджера были совершены десятки тысяч преступлений. И поныне не только в Америке, но и в Европе подражатели Диллинджера наводят на банковских служащих ужас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4" descr="_mikemouse_alive_mod_p189104355_id113041"/>
          <p:cNvPicPr/>
          <p:nvPr/>
        </p:nvPicPr>
        <p:blipFill>
          <a:blip r:embed="rId1"/>
          <a:stretch/>
        </p:blipFill>
        <p:spPr>
          <a:xfrm>
            <a:off x="6732720" y="2565360"/>
            <a:ext cx="2251080" cy="27129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Аль Капон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solidFill>
            <a:srgbClr val="cccc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Альфонсо Габриэль Капоне, или Аль Капоне (итал. Alfonso Capone; 17 января 1899 — 25 января 1947) — знаменитый американский гангстер, действовавший в 1920—1930-х годах на территории Чика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Под прикрытием мебельного бизнеса занимался бутлегерством, игорным бизнесом и сутенёрств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Яркий представитель организованной преступности США, зародившейся и существующей там под влиянием итальянской м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звестен также под прозвищем Лицо со шрам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4" descr="150px-Capone_TeenagerАльфонсо Габриэль Капоне"/>
          <p:cNvPicPr/>
          <p:nvPr/>
        </p:nvPicPr>
        <p:blipFill>
          <a:blip r:embed="rId1"/>
          <a:stretch/>
        </p:blipFill>
        <p:spPr>
          <a:xfrm>
            <a:off x="6804000" y="620640"/>
            <a:ext cx="2063880" cy="2737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Лёнька Пантеле́е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6948360" cy="5180040"/>
          </a:xfrm>
          <a:prstGeom prst="rect">
            <a:avLst/>
          </a:prstGeom>
          <a:solidFill>
            <a:srgbClr val="cccc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ёнька Пантеле́ев (настоящее имя Леони́д Ива́нович Пантёлкин; 1902, Тихвин — 13 февраля 1923, Петроград) — знаменитый петроградский налётчи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ачале 1922 года Пантелеев обосновался в Петрограде, где собрал банду в которую вошли: сослуживец Пантелеева по Псковской ВЧК Варшулевич, бывший во время гражданской войны комиссар батальона член РКП(б) Гавриков и профессиональные уголовники Александр Рейнтоп (кличка Сашка-пан) и Михаил Лисенков (кличка Мишка-Корявый). Примерно в то же время банда совершила ряд разбоев в г. Петрограде и его окрестностя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Налёты Пантелеева отличались тщательной подготовкой, а также некоторой театральностью и бравадой. Оружие Пантелеев и его люди применяли крайне редко. В то же время, в период своего существования банда Пантелеева не ограбила ни одну государственную организацию. Тот факт, что Пантелеев грабил только нэпманов, создал ему своеобразный романтический ореол в глазах простого нар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октябре 1922 года Пантелеев был арестован после перестрелки, в ходе которой погиб сотрудник милиции. В ночь с 10 на 11 ноября, воспользовавшись помощью надзирателя, Пантелеев с несколькими сообщниками совершил побег из тюрьмы и начал новую серию вооруженных разбоев. От первой серии эта отличалась тем, что Пантелеев иногда убивал своих жертв. К ликвидации банды были привлечены не только уголовный розыск, но и органы ГП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ночь с 12 на 13 февраля 1923 год Пантелеев попал в засаду и был убит при задержа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80px-LPanteleev"/>
          <p:cNvPicPr/>
          <p:nvPr/>
        </p:nvPicPr>
        <p:blipFill>
          <a:blip r:embed="rId1"/>
          <a:stretch/>
        </p:blipFill>
        <p:spPr>
          <a:xfrm>
            <a:off x="7020000" y="404640"/>
            <a:ext cx="1908000" cy="2349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877080" cy="6858000"/>
          </a:xfrm>
          <a:prstGeom prst="rect">
            <a:avLst/>
          </a:prstGeom>
          <a:solidFill>
            <a:srgbClr val="cc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о́нька — Золота́я ру́чка» великая аферистка и мошенница начала XX-го века Софья Ивановна Блювштейн (Шейндл Соломониа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Сегодняшний интерес к Софье вполне объясни́м — бурное начало века, давшее нам целую плеяду великих аферистов, вполне созвучно нашему не менее бурному времен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Жизнь легендарной в своём роде, дамы-авантюристки, известной в преступном мире, как Сонька-«Золотая Ручка», стала основой увлекательнейшего многосерийного повествования. В середине семидесятых годов XIX века о ней слагались легенды, она была неуловима и изобретательна, таланту и авторитету в уголовном мире не было равны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Благодаря поистине редкому криминальному мышлению, она приобрела опыт и смелость, подчинив свою жизнь и интеллект воровской профессии. В поле её деятельности оказывались крупные банкиры, иностранные дельцы, помещики, владельцы ювелирных магазинов, аристократические клубы, квартиры состоятельных людей. Это была яркая и талантливая, красивая и циничная; обаятельная и любвеобильная женщина, решившая для себя, что жизнь — игра, и в этой игре она не один год гастролировала по России и загранице, поражая воровской изобретательностью, убегая от преследования полиции, искусно исчезая и скрываясь…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олна преступлений, прокатившаяся по Европе, заставила говорить о Соньке весь мир. «Золотая ручка» отличалась особой скрупулезностью. Она тщательно готовилась к каждому преступлению. В её команде работали лучшие воры Европы, в её арсенале было множество приспособлений, необходимых для работы: накладные ногти, куда мошенница прятала мелкие ювелирные камни, туфли со специальными каблуками, к которым «вовремя» прилипали ювелирные украшения, платье-мешок, куда Сонька прятала награбленое. Но главным в её арсенале всевозможных уловок был несомненно актёрский талант, который помогал ей выпутываться из любы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4" descr="999952soniaka_zol_r"/>
          <p:cNvPicPr/>
          <p:nvPr/>
        </p:nvPicPr>
        <p:blipFill>
          <a:blip r:embed="rId1"/>
          <a:stretch/>
        </p:blipFill>
        <p:spPr>
          <a:xfrm>
            <a:off x="6948360" y="620640"/>
            <a:ext cx="2048040" cy="2857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79" name="Rectangle 5"/>
          <p:cNvSpPr/>
          <p:nvPr/>
        </p:nvSpPr>
        <p:spPr>
          <a:xfrm>
            <a:off x="6756480" y="3860640"/>
            <a:ext cx="230976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Один и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немног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ижизне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ортретов Со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209080" cy="568944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1.Принцип зако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ность и наказуемость деяния определяется только уголовным закон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2.Принцип равен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граждан перед законом. Лица совершившие преступления вне зависимости от привходящих обстоятельств, привлекаются к уголовной ответственности. За равные преступления назначается соразмерная ответственн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3.Принцип вины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подлежит уголовной ответственности только за те общественно опасные деяния, в отношении которых установлена его в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4.Принцип справедлив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наказание должно соответствовать характеру и степени общественной опас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реступления, личности виновного и обстоятельствам его соверш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5.Принцип гуман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головное законодательство направлено на обеспечение безопасности гражда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6.Принцип демократизма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Уголовные законы принимаются только высшим законодательным органом, который избирается всем населением и, следовательно, выражает его вол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7.Принцип личной ответственн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Лицо совершившее преступление несет ответственность только за то, что соверше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им лично или охватывалось его преступным умысл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8.Принцип неотвратимост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ответственности. Любое лицо совершившее преступление должно понести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835280" y="189000"/>
            <a:ext cx="453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Принципы уголовного 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28-1"/>
          <p:cNvPicPr/>
          <p:nvPr/>
        </p:nvPicPr>
        <p:blipFill>
          <a:blip r:embed="rId1"/>
          <a:stretch/>
        </p:blipFill>
        <p:spPr>
          <a:xfrm>
            <a:off x="179280" y="549360"/>
            <a:ext cx="8964720" cy="6119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414080" y="115920"/>
            <a:ext cx="3236400" cy="36828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1 –Уголовное пра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28-2"/>
          <p:cNvPicPr/>
          <p:nvPr/>
        </p:nvPicPr>
        <p:blipFill>
          <a:blip r:embed="rId1"/>
          <a:stretch/>
        </p:blipFill>
        <p:spPr>
          <a:xfrm>
            <a:off x="108000" y="836640"/>
            <a:ext cx="8785080" cy="5761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1903680" y="203040"/>
            <a:ext cx="52585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2 -  Уголовное право: особенная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Происхождение назв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6720" y="1436760"/>
            <a:ext cx="5904000" cy="537192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 большинстве языков мира название правовой отрасли, регулирующей отношения, связанные с совершением преступлений происходит от слов «преступление» (например, в англоязычных странах — criminal law, от англ. crime) или «наказание» (в Германии — Strafrecht, от нем. Strafe, в Болгарии — наказателно пра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. С. Таганцев писал по этому поводу: «Преступное деяние как юридическое отношение заключает в себе два отдельных момента: отношение преступника к охраняемому законом юридическому интересу — преступление и отношение государства к преступнику, вызываемое учиненным им преступным деянием, — наказа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этому и уголовное право может быть конструировано двояко: или на первый план ставится преступное деяние, по отношению к которому кара или наказание является более или менее неизбежным последствием, или же вперед выдвигается карательная деятельность государства и преступное деяние рассматривается только как основание этой деятельности. Отсюда и двойственное название науки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11"/>
          <p:cNvGrpSpPr/>
          <p:nvPr/>
        </p:nvGrpSpPr>
        <p:grpSpPr>
          <a:xfrm>
            <a:off x="6300720" y="1844640"/>
            <a:ext cx="2735280" cy="5013360"/>
            <a:chOff x="6300720" y="1844640"/>
            <a:chExt cx="2735280" cy="5013360"/>
          </a:xfrm>
        </p:grpSpPr>
        <p:pic>
          <p:nvPicPr>
            <p:cNvPr id="168" name="Picture 8" descr="salicaLex Salica"/>
            <p:cNvPicPr/>
            <p:nvPr/>
          </p:nvPicPr>
          <p:blipFill>
            <a:blip r:embed="rId1"/>
            <a:stretch/>
          </p:blipFill>
          <p:spPr>
            <a:xfrm>
              <a:off x="6300720" y="4336920"/>
              <a:ext cx="2735280" cy="2521080"/>
            </a:xfrm>
            <a:prstGeom prst="rect">
              <a:avLst/>
            </a:prstGeom>
            <a:ln w="9360">
              <a:solidFill>
                <a:srgbClr val="663300"/>
              </a:solidFill>
              <a:miter/>
            </a:ln>
          </p:spPr>
        </p:pic>
        <p:grpSp>
          <p:nvGrpSpPr>
            <p:cNvPr id="169" name="Group 10"/>
            <p:cNvGrpSpPr/>
            <p:nvPr/>
          </p:nvGrpSpPr>
          <p:grpSpPr>
            <a:xfrm>
              <a:off x="6723360" y="1844640"/>
              <a:ext cx="2258640" cy="2669760"/>
              <a:chOff x="6723360" y="1844640"/>
              <a:chExt cx="2258640" cy="2669760"/>
            </a:xfrm>
          </p:grpSpPr>
          <p:pic>
            <p:nvPicPr>
              <p:cNvPr id="170" name="Picture 7" descr="Franki"/>
              <p:cNvPicPr/>
              <p:nvPr/>
            </p:nvPicPr>
            <p:blipFill>
              <a:blip r:embed="rId2"/>
              <a:stretch/>
            </p:blipFill>
            <p:spPr>
              <a:xfrm>
                <a:off x="7164360" y="1844640"/>
                <a:ext cx="1817640" cy="2278080"/>
              </a:xfrm>
              <a:prstGeom prst="rect">
                <a:avLst/>
              </a:prstGeom>
              <a:ln w="9360">
                <a:solidFill>
                  <a:srgbClr val="663300"/>
                </a:solidFill>
                <a:miter/>
              </a:ln>
            </p:spPr>
          </p:pic>
          <p:sp>
            <p:nvSpPr>
              <p:cNvPr id="171" name="Text Box 9"/>
              <p:cNvSpPr/>
              <p:nvPr/>
            </p:nvSpPr>
            <p:spPr>
              <a:xfrm>
                <a:off x="6723360" y="3933720"/>
                <a:ext cx="2131560" cy="580680"/>
              </a:xfrm>
              <a:prstGeom prst="rect">
                <a:avLst/>
              </a:prstGeom>
              <a:solidFill>
                <a:srgbClr val="f8a5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Салическая правда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Tahoma"/>
                  </a:rPr>
                  <a:t>(</a:t>
                </a:r>
                <a:r>
                  <a:rPr b="1" i="1" lang="ru-RU" sz="1600" spc="-1" strike="noStrike">
                    <a:solidFill>
                      <a:srgbClr val="663300"/>
                    </a:solidFill>
                    <a:latin typeface="Tahoma"/>
                  </a:rPr>
                  <a:t>(Lex Salica</a:t>
                </a:r>
                <a:r>
                  <a:rPr b="1" i="1" lang="en-US" sz="1600" spc="-1" strike="noStrike">
                    <a:solidFill>
                      <a:srgbClr val="663300"/>
                    </a:solidFill>
                    <a:latin typeface="Tahoma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72" name="Picture 12" descr="9"/>
          <p:cNvPicPr/>
          <p:nvPr/>
        </p:nvPicPr>
        <p:blipFill>
          <a:blip r:embed="rId3"/>
          <a:stretch/>
        </p:blipFill>
        <p:spPr>
          <a:xfrm>
            <a:off x="6705720" y="115920"/>
            <a:ext cx="2438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image002"/>
          <p:cNvPicPr/>
          <p:nvPr/>
        </p:nvPicPr>
        <p:blipFill>
          <a:blip r:embed="rId1"/>
          <a:stretch/>
        </p:blipFill>
        <p:spPr>
          <a:xfrm>
            <a:off x="2124000" y="57240"/>
            <a:ext cx="6264360" cy="68007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287" name="Text Box 5"/>
          <p:cNvSpPr/>
          <p:nvPr/>
        </p:nvSpPr>
        <p:spPr>
          <a:xfrm>
            <a:off x="179280" y="907920"/>
            <a:ext cx="1513080" cy="91692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3-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image001"/>
          <p:cNvPicPr/>
          <p:nvPr/>
        </p:nvPicPr>
        <p:blipFill>
          <a:blip r:embed="rId1"/>
          <a:stretch/>
        </p:blipFill>
        <p:spPr>
          <a:xfrm>
            <a:off x="2050920" y="549360"/>
            <a:ext cx="6480360" cy="6048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89" name="Text Box 5"/>
          <p:cNvSpPr/>
          <p:nvPr/>
        </p:nvSpPr>
        <p:spPr>
          <a:xfrm>
            <a:off x="361800" y="907920"/>
            <a:ext cx="157968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Схема 4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едм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ра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195640" y="259920"/>
            <a:ext cx="4680000" cy="659772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Название этой отрасли права в русском языке имеет опосредованное отношение как к преступлению, так и к наказанию. Прилагательное «уголовный» было введено в правовой лексикон в последней четверти XVIII ве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Его происхождение является двояким: с одной стороны, оно восходит к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юридическим памятникам Древней Руси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, употреблявшим такие термины, как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а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тый человек), «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головник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» (убийца), «головщина» (убийство), «головничество» (вознаграждение родственникам убит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 другой стороны — </a:t>
            </a:r>
            <a:r>
              <a:rPr b="0" i="1" lang="ru-RU" sz="2000" spc="-1" strike="noStrike">
                <a:solidFill>
                  <a:srgbClr val="663300"/>
                </a:solidFill>
                <a:latin typeface="Times New Roman"/>
              </a:rPr>
              <a:t>к латинскому прилагательному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capitalis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(от caput — голова, человек, индивидуум), которое в римском праве входило в названия наиболее суровых видов наказаний, связанных со смертной казнью, лишением свободы или римского граждан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«Ярослав Мудрый»"/>
          <p:cNvPicPr/>
          <p:nvPr/>
        </p:nvPicPr>
        <p:blipFill>
          <a:blip r:embed="rId1"/>
          <a:stretch/>
        </p:blipFill>
        <p:spPr>
          <a:xfrm>
            <a:off x="0" y="189000"/>
            <a:ext cx="2050920" cy="302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ravda"/>
          <p:cNvPicPr/>
          <p:nvPr/>
        </p:nvPicPr>
        <p:blipFill>
          <a:blip r:embed="rId2"/>
          <a:stretch/>
        </p:blipFill>
        <p:spPr>
          <a:xfrm>
            <a:off x="0" y="378936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img83033"/>
          <p:cNvPicPr/>
          <p:nvPr/>
        </p:nvPicPr>
        <p:blipFill>
          <a:blip r:embed="rId3"/>
          <a:stretch/>
        </p:blipFill>
        <p:spPr>
          <a:xfrm>
            <a:off x="7164360" y="4338720"/>
            <a:ext cx="1763640" cy="2519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219722823"/>
          <p:cNvPicPr/>
          <p:nvPr/>
        </p:nvPicPr>
        <p:blipFill>
          <a:blip r:embed="rId4"/>
          <a:stretch/>
        </p:blipFill>
        <p:spPr>
          <a:xfrm>
            <a:off x="6948360" y="2852640"/>
            <a:ext cx="1979640" cy="139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80104633_tonnelЦицерон Марк"/>
          <p:cNvPicPr/>
          <p:nvPr/>
        </p:nvPicPr>
        <p:blipFill>
          <a:blip r:embed="rId5"/>
          <a:stretch/>
        </p:blipFill>
        <p:spPr>
          <a:xfrm>
            <a:off x="7093080" y="189000"/>
            <a:ext cx="1860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27280" y="259920"/>
            <a:ext cx="6059520" cy="3024360"/>
          </a:xfrm>
          <a:prstGeom prst="rect">
            <a:avLst/>
          </a:prstGeom>
          <a:solidFill>
            <a:srgbClr val="ffcc66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ак, ещё М. М. Сперанский в пояснениях к проекту Уголовного уложения Российской Империи 1813 года указывал, что уголовные наказания «суть те, где дело идет о голове, т. е. о жизни, diminutio capit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Жизнь каждого лица в обществе есть троякая: физическая, политическая и гражданская; две последние именуются правами состоя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Всякое наказание, непосредственно удручающее или умаляющее бытие или состояние лица, есть наказание уголовно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250920" y="404640"/>
            <a:ext cx="2136600" cy="3039840"/>
            <a:chOff x="250920" y="404640"/>
            <a:chExt cx="2136600" cy="3039840"/>
          </a:xfrm>
        </p:grpSpPr>
        <p:pic>
          <p:nvPicPr>
            <p:cNvPr id="181" name="Picture 4" descr="iМихаил Михайлович Сперанский"/>
            <p:cNvPicPr/>
            <p:nvPr/>
          </p:nvPicPr>
          <p:blipFill>
            <a:blip r:embed="rId1"/>
            <a:stretch/>
          </p:blipFill>
          <p:spPr>
            <a:xfrm>
              <a:off x="250920" y="404640"/>
              <a:ext cx="2136600" cy="2521080"/>
            </a:xfrm>
            <a:prstGeom prst="rect">
              <a:avLst/>
            </a:prstGeom>
            <a:ln w="38160">
              <a:solidFill>
                <a:srgbClr val="663300"/>
              </a:solidFill>
              <a:miter/>
            </a:ln>
          </p:spPr>
        </p:pic>
        <p:sp>
          <p:nvSpPr>
            <p:cNvPr id="182" name="Rectangle 5"/>
            <p:cNvSpPr/>
            <p:nvPr/>
          </p:nvSpPr>
          <p:spPr>
            <a:xfrm>
              <a:off x="313200" y="2924280"/>
              <a:ext cx="2058120" cy="520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Михаил Михайлович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Tahoma"/>
                </a:rPr>
                <a:t>Сперанск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3" name="Text Box 6"/>
          <p:cNvSpPr/>
          <p:nvPr/>
        </p:nvSpPr>
        <p:spPr>
          <a:xfrm>
            <a:off x="1979640" y="4292640"/>
            <a:ext cx="6848280" cy="2288520"/>
          </a:xfrm>
          <a:prstGeom prst="rect">
            <a:avLst/>
          </a:prstGeom>
          <a:solidFill>
            <a:srgbClr val="ffcc66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храна прав и свобод граждан, собственности, общественного порядка и безопасности, окружающей среды, конституционного строя от преступных посягательств, обеспечение мира и безопасности человечества, а т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же предупреждение преступл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395280" y="4869000"/>
            <a:ext cx="107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ст.2, ч.1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УК РФ</a:t>
            </a:r>
            <a:endParaRPr b="0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895480" y="358776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132000" y="3573360"/>
            <a:ext cx="4751640" cy="482760"/>
          </a:xfrm>
          <a:prstGeom prst="rect">
            <a:avLst/>
          </a:prstGeom>
          <a:solidFill>
            <a:srgbClr val="99cc00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Задачи уголовного законодатель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76360" y="3284640"/>
            <a:ext cx="5616360" cy="337968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ринципы уголовного права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зако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равенство граждан перед законо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еотвратимость ответственност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личная и виновная ответственн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праведливость и гуман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демократиз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исключение двойной уголовной ответственности за одно и то же де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79280" y="1052640"/>
            <a:ext cx="8856720" cy="642600"/>
          </a:xfrm>
          <a:prstGeom prst="rect">
            <a:avLst/>
          </a:prstGeom>
          <a:solidFill>
            <a:srgbClr val="99cc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анная отрасль права определяет общественно опасные дея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(преступления) и меру ответственности, наказания за их совер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692360" y="1916280"/>
            <a:ext cx="6810120" cy="70380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Особенность Уголовного права заклю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ahoma"/>
              </a:rPr>
              <a:t>в охране общества от преступных посягательст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7" descr="гев"/>
          <p:cNvPicPr/>
          <p:nvPr/>
        </p:nvPicPr>
        <p:blipFill>
          <a:blip r:embed="rId1"/>
          <a:stretch/>
        </p:blipFill>
        <p:spPr>
          <a:xfrm>
            <a:off x="179280" y="4869000"/>
            <a:ext cx="2880000" cy="1726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191" name="Picture 8" descr="sf_photo_lv_2"/>
          <p:cNvPicPr/>
          <p:nvPr/>
        </p:nvPicPr>
        <p:blipFill>
          <a:blip r:embed="rId2"/>
          <a:stretch/>
        </p:blipFill>
        <p:spPr>
          <a:xfrm>
            <a:off x="395280" y="3141720"/>
            <a:ext cx="2427120" cy="13478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92" name="Rectangle 9"/>
          <p:cNvSpPr/>
          <p:nvPr/>
        </p:nvSpPr>
        <p:spPr>
          <a:xfrm>
            <a:off x="971640" y="189000"/>
            <a:ext cx="7199280" cy="642600"/>
          </a:xfrm>
          <a:prstGeom prst="rect">
            <a:avLst/>
          </a:prstGeom>
          <a:solidFill>
            <a:srgbClr val="cccc00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Понятие уголовного прав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036000" cy="118116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истема уголовного права разделяется на Общую, (излагающую основные цели, задачи и принципы) и Особенную (рассматривает вопросы ответственности за совершение конкретных преступлений)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19280" y="189000"/>
            <a:ext cx="6213600" cy="36828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Характеристика Уголовного кодек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95640" y="907920"/>
            <a:ext cx="5761080" cy="459720"/>
          </a:xfrm>
          <a:prstGeom prst="rect">
            <a:avLst/>
          </a:prstGeom>
          <a:solidFill>
            <a:srgbClr val="cca5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12 разделов    -     360 ста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826920" y="2924280"/>
            <a:ext cx="2953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бщая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2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7" name="WordArt 7"/>
          <p:cNvSpPr txBox="1"/>
          <p:nvPr/>
        </p:nvSpPr>
        <p:spPr>
          <a:xfrm>
            <a:off x="5415120" y="2849400"/>
            <a:ext cx="27032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Особенная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b829"/>
                </a:solid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solidFill>
                <a:srgbClr val="ffb829"/>
              </a:solidFill>
              <a:latin typeface="Impact"/>
              <a:ea typeface="Impact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79280" y="3886200"/>
            <a:ext cx="3816360" cy="2899080"/>
          </a:xfrm>
          <a:prstGeom prst="rect">
            <a:avLst/>
          </a:prstGeom>
          <a:solidFill>
            <a:srgbClr val="cca5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головный зако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аказани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свобождение от уголовной ответствен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УО несовершеннолетни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инудительные м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едицинского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характер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750920" y="3946680"/>
            <a:ext cx="4152240" cy="2838240"/>
          </a:xfrm>
          <a:prstGeom prst="rect">
            <a:avLst/>
          </a:prstGeom>
          <a:solidFill>
            <a:srgbClr val="cca500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3300"/>
                </a:solidFill>
                <a:uFillTx/>
                <a:latin typeface="Times New Roman"/>
              </a:rPr>
              <a:t>6 раздел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лич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в сфере экономи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обществен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ной безопас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гос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во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луж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реступления против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0" descr="7"/>
          <p:cNvPicPr/>
          <p:nvPr/>
        </p:nvPicPr>
        <p:blipFill>
          <a:blip r:embed="rId1"/>
          <a:stretch/>
        </p:blipFill>
        <p:spPr>
          <a:xfrm>
            <a:off x="150840" y="189000"/>
            <a:ext cx="965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2708280"/>
            <a:ext cx="8229600" cy="1008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a500"/>
                </a:solidFill>
                <a:latin typeface="Tahoma"/>
              </a:rPr>
              <a:t>формулируют основные понятия и принципы уголов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547640" y="1916280"/>
            <a:ext cx="5780160" cy="459720"/>
          </a:xfrm>
          <a:prstGeom prst="rect">
            <a:avLst/>
          </a:prstGeom>
          <a:solidFill>
            <a:srgbClr val="cc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бще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195640" y="4005360"/>
            <a:ext cx="4626000" cy="459720"/>
          </a:xfrm>
          <a:prstGeom prst="rect">
            <a:avLst/>
          </a:prstGeom>
          <a:solidFill>
            <a:srgbClr val="f8a5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Статьи Особенной ч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8880" y="4797360"/>
            <a:ext cx="8830800" cy="1191240"/>
          </a:xfrm>
          <a:prstGeom prst="rect">
            <a:avLst/>
          </a:prstGeom>
          <a:solidFill>
            <a:srgbClr val="dbbd71"/>
          </a:soli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-состоят из 2 часте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испозиция (описание признаков конкретного преступления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Санкция(определение вида и размера наказ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79280" y="333360"/>
            <a:ext cx="8748720" cy="1465560"/>
          </a:xfrm>
          <a:prstGeom prst="rect">
            <a:avLst/>
          </a:prstGeom>
          <a:solidFill>
            <a:srgbClr val="ffcc66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Единственным источником УП является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уголовный закон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, основывающийся на Конституции РФ и общепризнанных нормах международного пра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Уголовный Кодекс (УК) подразделяется на Общую (общие положения) и Особенную (конкретные статьи) ч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4149720"/>
            <a:ext cx="8785440" cy="2519280"/>
          </a:xfrm>
          <a:prstGeom prst="rect">
            <a:avLst/>
          </a:prstGeom>
          <a:solidFill>
            <a:srgbClr val="cca500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В санкции указывается вид и размер наказания за совершение конкретного преступле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Санкции бываю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относительно-определенными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указывается нижний и верхний предел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альтернативными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содержит выбор из различных видов наказани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УК нос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территориальный</a:t>
            </a: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(все лица, совершившие преступления на территории России, подлежат ответственности по законам РФ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8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Times New Roman"/>
              </a:rPr>
              <a:t>гражданский характер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(граждане РФ вне зависимости от места совершения преступления подлежат ответственности по российским закон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79280" y="333360"/>
            <a:ext cx="4969080" cy="32130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      </a:t>
            </a: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Выделя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ahoma"/>
              </a:rPr>
              <a:t>четыре вида диспозиции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простая (называется преступление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не раскрывая его признаков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описательная (определяются существен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признаки: кража, например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это тайное похищение чужого имущества)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ссылочная (отсылка к другой статье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- бланкетная (не определяются все призна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состава преступления, что  требу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663300"/>
                </a:solidFill>
                <a:latin typeface="Tahoma"/>
              </a:rPr>
              <a:t>обращения к другим нормам или отраслям прав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8" descr="strafrecht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719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209" name="Picture 9" descr="beccaria"/>
          <p:cNvPicPr/>
          <p:nvPr/>
        </p:nvPicPr>
        <p:blipFill>
          <a:blip r:embed="rId2"/>
          <a:stretch/>
        </p:blipFill>
        <p:spPr>
          <a:xfrm>
            <a:off x="5364000" y="1700280"/>
            <a:ext cx="2953080" cy="2332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8:37:27Z</dcterms:created>
  <dc:creator>www.PHILka.RU</dc:creator>
  <dc:description/>
  <dc:language>en-US</dc:language>
  <cp:lastModifiedBy>Ведмедовская_Т</cp:lastModifiedBy>
  <dcterms:modified xsi:type="dcterms:W3CDTF">2018-12-24T15:49:32Z</dcterms:modified>
  <cp:revision>17</cp:revision>
  <dc:subject/>
  <dc:title>Уголовное право</dc:title>
</cp:coreProperties>
</file>